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5547E5-98D9-4EEF-B9F8-28E59E04BF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A1A991-B1DA-4816-BBE5-11E2216299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51B02F9-5DB6-4289-8DF3-903B78108C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DCB9B-9D38-484F-8135-6B6739D3F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162E6-C0B2-4F24-95F5-9C166BB13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B2E8DA-8526-467B-8E02-E4C1B6440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482CA5-93B3-40D2-917E-EBDACB867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E4FE50-FCE1-459B-A3FE-0DA46C8D9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39EA03-099A-468E-8EE0-D6CA8734D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A617DC-1713-424E-9CA2-A5532ACF4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B0CACB-87DD-4A2A-85D7-FFC93A705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88749D-B36A-45D8-9F2B-8D7C3381D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5655C1-58C8-4953-AE79-FAEDB9F8A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231380-90FC-4E89-BDB3-FF92D953C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E3A41-EF67-47DA-BCA8-FDCC11855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1BA93-782D-4563-8FD5-995757B80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6ADD5-0DB5-4DF8-9CCF-6EF19B37F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A7026-C011-47FF-99CA-982DA18ED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0DF62-7C8B-413E-8346-CAA3EE016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DDCD8-2020-43C4-84FA-027C8642F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F74C6-CC08-43E0-BD6E-01B89F181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5333C-D97F-42EF-9C59-6114CBEDA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4C008-8CE3-4213-8380-C6966910F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108E8-A523-45BB-BB2C-5F6012B72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ED95E-0A42-45CB-89E1-6EB3A09BA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A3EE0-0EF8-48DE-92BC-4E171B3CC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352C5-C617-4AEB-A385-42AC93096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5EEA8-B947-4E27-A99D-9EF104240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5C42C-807D-43BC-9210-47D8B57E2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950349-B565-4554-A367-3C0967858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C69CFC-9D84-462E-865B-A50AABB81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E493B7-2EAF-4562-BAB2-5F734F467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D45567-2EF7-4F38-BC2B-D2BAF5534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2E932B-C339-4133-87A2-738E7A08D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EEB5E-2748-4782-B50F-CC6161A8D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18545C-8DA2-494F-A277-96381B00F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BDDCB2-AEC3-42C6-A10C-CC2B14EC6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263389-BB4E-44C8-9EA8-C06121DAE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1DECA5-7216-4996-B2EA-7E482625B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38B82C-83B1-4BFF-B97E-E9D164FFF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6E60A2-3A52-4BAB-B48A-23D4BE3F3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8597AE-DA09-43EB-89D4-F2367A41B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3B46DD-BEA4-48C5-AA85-84F51987E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F1C7A5-D8D8-4B95-A25D-28D1BFF57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96DA95-9078-4F6F-BB3E-24AAB754F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96425-E6AC-45D8-B28F-1C6539BAA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A49EDC-CA4D-4F28-ACB0-5CE2A6983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F77C8E-F4B2-42F6-8DB0-48A8F9B5D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15F104-AD10-4A68-A2F1-8864A6E9B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88C6C8-AEF1-4D57-9DCF-AF76AB528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9CC14D-5DD7-4DDC-8F0A-F47830D27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BA7CC0-AA3E-4503-8A82-09051DB8E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2D03CA-61FA-4A5B-B181-A4136CC00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417E65-1E1C-495E-A874-654191656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D888B1-C61C-4E74-B9A3-337480891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412108-7BE9-40F9-9F2F-A3909683D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4D98A-AE98-4AB3-919B-E7D44CF10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31CDC7-F942-4C1E-8B3C-E548DC9F5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0A7F59-E8FB-47A5-929B-825B21DD9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0E46C0-DA17-4014-A675-EA89D66ED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877186-7428-40CC-ACD5-9BBC09A57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BD654C-C30C-4575-9D2B-4D82E31EA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35B163-AFCB-4292-88E9-370204742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22E496-5558-4624-A902-DEED25C8C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E12401-3BD3-4C95-A7DD-AAC9FBA93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07BE39-1757-4480-849C-1DA52353C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274373-2B20-44C9-BB1F-3D6CD256C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C5BFC-F2D4-496E-924A-BF3D4471B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99F030-2DB8-4A07-8B56-2B149D044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9E4E58-9642-47AE-80C3-19B972211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D0EE0C-AE41-46E1-8342-5EDE71E60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37400F-82AA-4572-A89C-F5D78BE78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865FA0-20BB-4500-8529-B12E97A5A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9FB477-8A63-4CBB-A361-1A5DCA655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DA3461-0C95-4460-856E-1283E2D05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63BC19-5E4F-4FD8-A2F7-B855376FD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C1AAB5-3A16-44F0-86C6-069FF27F3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826DC3-FD6C-434C-9B23-D9441FEC0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24748-65C7-4AC0-9D67-A51CA4023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4351FF-2627-44C7-8E07-B213312E7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C53EDD-2A64-4B2C-9A05-A30065777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98C018-3625-4798-8C80-719972847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638D90-60E8-4F3B-A992-7CB4B8279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9DF5B4-6D5E-440F-B509-66958A352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00918B-1325-4204-994F-3FD3FE0B0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D69251-F71C-46DA-8CC3-0DF75CF8C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7F31F0-E883-4673-AE6D-D850D0044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683C91-EDB6-4955-BA95-3B519AF02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5145C6-5433-4250-BAB4-57FACA787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910FB-B37F-4CF4-A743-6EB2997B9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605CF2-5F9C-4CC2-8F09-3F1254CD7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E51943-7FC5-4E15-A387-854EF3954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43D4B9-70A9-4E36-8E8A-F56873168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7F2B3E-788B-43EA-83D4-EA5AE4D35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B114B3-7B1F-46D9-8C04-06DEC3424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49316A-9681-4728-B20D-F0ED4C288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F405C4-2E72-4E50-B74F-C1882C354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3EEB6D-94F5-4741-9A63-B88830102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F60706-458A-434A-A7F0-D1A0400BE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3D8CED-FAD8-4D4D-AADA-D60F47CE3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860D3-834F-42E4-8705-E85362B1D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94B6C1-20A7-4AD0-870F-1DCBB62EE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E62E93-F42A-4E07-B8AF-5E77E5171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9C5E1C-3557-465E-8B99-C826B5B9F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1C7E4F-499D-4B06-94B0-F9A9FA51E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240461-2A63-41D6-837C-5F669519B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8DC573-4CE9-4BF0-AEE0-BB2359D37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1857C4-D63C-4C6B-A254-6A7D0B4E4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1D366F-694E-4003-984F-48724418F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A48513-3C61-4604-9095-8F8407A57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C3D631-0953-423B-BAAE-D0C1D8BDA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Straight Connector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E99F13B-8DD8-48AF-A24B-1068859EB3AA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Straight Connector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1" name="Straight Connector 11"/>
          <p:cNvGrpSpPr/>
          <p:nvPr/>
        </p:nvGrpSpPr>
        <p:grpSpPr>
          <a:xfrm>
            <a:off x="512640" y="1047600"/>
            <a:ext cx="8631360" cy="19080"/>
            <a:chOff x="512640" y="1047600"/>
            <a:chExt cx="8631360" cy="19080"/>
          </a:xfrm>
        </p:grpSpPr>
        <p:pic>
          <p:nvPicPr>
            <p:cNvPr id="12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12640" y="1047600"/>
              <a:ext cx="8631360" cy="1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Straight Connector 12"/>
          <p:cNvGrpSpPr/>
          <p:nvPr/>
        </p:nvGrpSpPr>
        <p:grpSpPr>
          <a:xfrm>
            <a:off x="512640" y="5340240"/>
            <a:ext cx="8631360" cy="17640"/>
            <a:chOff x="512640" y="5340240"/>
            <a:chExt cx="8631360" cy="17640"/>
          </a:xfrm>
        </p:grpSpPr>
        <p:pic>
          <p:nvPicPr>
            <p:cNvPr id="51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12640" y="534024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4B65FA6-14F5-4BB2-9438-0555F888E81E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Straight Connector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5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97" name="Straight Connector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8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00" name="Straight Connector 11"/>
          <p:cNvGrpSpPr/>
          <p:nvPr/>
        </p:nvGrpSpPr>
        <p:grpSpPr>
          <a:xfrm>
            <a:off x="512640" y="1047600"/>
            <a:ext cx="8631360" cy="19080"/>
            <a:chOff x="512640" y="1047600"/>
            <a:chExt cx="8631360" cy="19080"/>
          </a:xfrm>
        </p:grpSpPr>
        <p:pic>
          <p:nvPicPr>
            <p:cNvPr id="101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12640" y="1047600"/>
              <a:ext cx="8631360" cy="1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AE53EE-D82A-456F-AEF0-701A1F71BCC3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Straight Connector 12"/>
          <p:cNvGrpSpPr/>
          <p:nvPr/>
        </p:nvGrpSpPr>
        <p:grpSpPr>
          <a:xfrm>
            <a:off x="512640" y="3438360"/>
            <a:ext cx="8631360" cy="17640"/>
            <a:chOff x="512640" y="3438360"/>
            <a:chExt cx="8631360" cy="17640"/>
          </a:xfrm>
        </p:grpSpPr>
        <p:pic>
          <p:nvPicPr>
            <p:cNvPr id="145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12640" y="343836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B0D097-6676-4E59-BFDC-2B324E9F08D9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Straight Connector 12"/>
          <p:cNvGrpSpPr/>
          <p:nvPr/>
        </p:nvGrpSpPr>
        <p:grpSpPr>
          <a:xfrm>
            <a:off x="512640" y="6010200"/>
            <a:ext cx="8631360" cy="19080"/>
            <a:chOff x="512640" y="6010200"/>
            <a:chExt cx="8631360" cy="19080"/>
          </a:xfrm>
        </p:grpSpPr>
        <p:pic>
          <p:nvPicPr>
            <p:cNvPr id="189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12640" y="6010200"/>
              <a:ext cx="8631360" cy="1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B69CC94-B3B9-4986-9549-DDD5656A727A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14B9ED7-0B59-4CFF-8327-05C3C957B0D8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Straight Connector 12"/>
          <p:cNvGrpSpPr/>
          <p:nvPr/>
        </p:nvGrpSpPr>
        <p:grpSpPr>
          <a:xfrm>
            <a:off x="512640" y="5840280"/>
            <a:ext cx="8631360" cy="17640"/>
            <a:chOff x="512640" y="5840280"/>
            <a:chExt cx="8631360" cy="17640"/>
          </a:xfrm>
        </p:grpSpPr>
        <p:pic>
          <p:nvPicPr>
            <p:cNvPr id="274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12640" y="584028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A7FD55-5E41-4340-B8EF-37CD389230FD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0A3FBC-715D-4DAE-8D76-19C8E5C39A05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D15659-2133-42AA-8737-F267FF690798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1"/>
          <p:cNvSpPr/>
          <p:nvPr/>
        </p:nvSpPr>
        <p:spPr>
          <a:xfrm>
            <a:off x="460440" y="812880"/>
            <a:ext cx="8211960" cy="22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Increasing Student Success by Integrating SLOs and Best Practices</a:t>
            </a:r>
            <a:endParaRPr b="0" lang="en-US" sz="49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7" name="Text Box 4"/>
          <p:cNvSpPr/>
          <p:nvPr/>
        </p:nvSpPr>
        <p:spPr>
          <a:xfrm>
            <a:off x="460440" y="3540240"/>
            <a:ext cx="9018360" cy="241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th Patel   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                         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a Statucki Kreit 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SL/Basic Skills English            English Department </a:t>
            </a:r>
            <a:endParaRPr b="0" lang="en-US" sz="27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ollege of Marin                         College of Marin </a:t>
            </a:r>
            <a:endParaRPr b="0" lang="en-US" sz="27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Link to our Wiki site:  </a:t>
            </a:r>
            <a:r>
              <a:rPr b="1" lang="en-US" sz="2700" spc="-1" strike="noStrike" u="sng">
                <a:solidFill>
                  <a:srgbClr val="0000ff"/>
                </a:solidFill>
                <a:uFillTx/>
                <a:latin typeface="Arial"/>
              </a:rPr>
              <a:t>http://bit.ly/Hdeghg</a:t>
            </a:r>
            <a:endParaRPr b="0" lang="en-US" sz="27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Title 1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8686800" cy="1006560"/>
          </a:xfrm>
          <a:prstGeom prst="rect">
            <a:avLst/>
          </a:prstGeom>
          <a:ln w="0">
            <a:noFill/>
          </a:ln>
        </p:spPr>
      </p:pic>
      <p:sp>
        <p:nvSpPr>
          <p:cNvPr id="409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341280">
              <a:lnSpc>
                <a:spcPct val="75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Rationale </a:t>
            </a:r>
            <a:endParaRPr b="0" lang="en-US" sz="34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341280">
              <a:lnSpc>
                <a:spcPct val="75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Overview of our college learning outcomes  </a:t>
            </a:r>
            <a:endParaRPr b="0" lang="en-US" sz="34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341280">
              <a:lnSpc>
                <a:spcPct val="75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ummary of our process</a:t>
            </a:r>
            <a:endParaRPr b="0" lang="en-US" sz="34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341280">
              <a:lnSpc>
                <a:spcPct val="75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Website tour</a:t>
            </a:r>
            <a:endParaRPr b="0" lang="en-US" sz="34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341280">
              <a:lnSpc>
                <a:spcPct val="75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Applications to other departments</a:t>
            </a:r>
            <a:endParaRPr b="0" lang="en-US" sz="34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341280">
              <a:lnSpc>
                <a:spcPct val="75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Importance of professional learning communities </a:t>
            </a:r>
            <a:endParaRPr b="0" lang="en-US" sz="3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85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Title 1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8686800" cy="100656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 txBox="1"/>
          <p:nvPr/>
        </p:nvSpPr>
        <p:spPr>
          <a:xfrm>
            <a:off x="304920" y="129528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5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3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341280">
              <a:lnSpc>
                <a:spcPct val="75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ESL course alignment and Student Learning Outcomes (SLOs)     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7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341280">
              <a:lnSpc>
                <a:spcPct val="75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LOs and classroom practices 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75000"/>
              </a:lnSpc>
              <a:spcBef>
                <a:spcPts val="675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341280">
              <a:lnSpc>
                <a:spcPct val="75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llege-wide learning outcomes / SLOs for the General Education programs: 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341280">
              <a:lnSpc>
                <a:spcPct val="7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341280"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 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Written Competency 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341280"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 Critical Thinking and Problem Solv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Information Literac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 Visual Communica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 Scientific Reasoning 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7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7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75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     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Rubrics: 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Arial"/>
              </a:rPr>
              <a:t>http://bit.ly/HPeKta</a:t>
            </a:r>
            <a:endParaRPr b="0" lang="en-US" sz="11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7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341280">
              <a:lnSpc>
                <a:spcPct val="75000"/>
              </a:lnSpc>
              <a:spcBef>
                <a:spcPts val="675"/>
              </a:spcBef>
              <a:buClr>
                <a:srgbClr val="00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Title 1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8686800" cy="1006560"/>
          </a:xfrm>
          <a:prstGeom prst="rect">
            <a:avLst/>
          </a:prstGeom>
          <a:ln w="0">
            <a:noFill/>
          </a:ln>
        </p:spPr>
      </p:pic>
      <p:sp>
        <p:nvSpPr>
          <p:cNvPr id="413" name=""/>
          <p:cNvSpPr txBox="1"/>
          <p:nvPr/>
        </p:nvSpPr>
        <p:spPr>
          <a:xfrm>
            <a:off x="304560" y="1553760"/>
            <a:ext cx="8839080" cy="530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99960">
              <a:lnSpc>
                <a:spcPct val="95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399960">
              <a:lnSpc>
                <a:spcPct val="95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 instructional practices can we use to prepare basic skills students to successfully meet college-wide SLOs?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9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 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 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Title 1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8686800" cy="1006560"/>
          </a:xfrm>
          <a:prstGeom prst="rect">
            <a:avLst/>
          </a:prstGeom>
          <a:ln w="0">
            <a:noFill/>
          </a:ln>
        </p:spPr>
      </p:pic>
      <p:sp>
        <p:nvSpPr>
          <p:cNvPr id="415" name="Freeform 4"/>
          <p:cNvSpPr/>
          <p:nvPr/>
        </p:nvSpPr>
        <p:spPr>
          <a:xfrm flipV="1">
            <a:off x="4135320" y="1718640"/>
            <a:ext cx="497160" cy="601560"/>
          </a:xfrm>
          <a:custGeom>
            <a:avLst/>
            <a:gdLst/>
            <a:ahLst/>
            <a:rect l="l" t="t" r="r" b="b"/>
            <a:pathLst>
              <a:path w="22715" h="21600">
                <a:moveTo>
                  <a:pt x="6165" y="21600"/>
                </a:moveTo>
                <a:lnTo>
                  <a:pt x="6165" y="11173"/>
                </a:lnTo>
                <a:cubicBezTo>
                  <a:pt x="6165" y="11173"/>
                  <a:pt x="1031" y="11188"/>
                  <a:pt x="985" y="11173"/>
                </a:cubicBezTo>
                <a:cubicBezTo>
                  <a:pt x="0" y="11173"/>
                  <a:pt x="995" y="10190"/>
                  <a:pt x="995" y="10190"/>
                </a:cubicBezTo>
                <a:lnTo>
                  <a:pt x="11345" y="0"/>
                </a:lnTo>
                <a:cubicBezTo>
                  <a:pt x="11345" y="0"/>
                  <a:pt x="21669" y="10187"/>
                  <a:pt x="21691" y="10187"/>
                </a:cubicBezTo>
                <a:cubicBezTo>
                  <a:pt x="22715" y="11337"/>
                  <a:pt x="21705" y="11173"/>
                  <a:pt x="21705" y="11173"/>
                </a:cubicBezTo>
                <a:lnTo>
                  <a:pt x="16526" y="11173"/>
                </a:lnTo>
                <a:lnTo>
                  <a:pt x="16526" y="21600"/>
                </a:lnTo>
                <a:lnTo>
                  <a:pt x="6165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1080" rIns="9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6" name="Freeform 5"/>
          <p:cNvSpPr/>
          <p:nvPr/>
        </p:nvSpPr>
        <p:spPr>
          <a:xfrm flipV="1">
            <a:off x="4138560" y="3141000"/>
            <a:ext cx="477720" cy="655560"/>
          </a:xfrm>
          <a:custGeom>
            <a:avLst/>
            <a:gdLst/>
            <a:ahLst/>
            <a:rect l="l" t="t" r="r" b="b"/>
            <a:pathLst>
              <a:path w="22715" h="21600">
                <a:moveTo>
                  <a:pt x="6165" y="21600"/>
                </a:moveTo>
                <a:lnTo>
                  <a:pt x="6165" y="11173"/>
                </a:lnTo>
                <a:cubicBezTo>
                  <a:pt x="6165" y="11173"/>
                  <a:pt x="1031" y="11188"/>
                  <a:pt x="985" y="11173"/>
                </a:cubicBezTo>
                <a:cubicBezTo>
                  <a:pt x="0" y="11173"/>
                  <a:pt x="995" y="10190"/>
                  <a:pt x="995" y="10190"/>
                </a:cubicBezTo>
                <a:lnTo>
                  <a:pt x="11345" y="0"/>
                </a:lnTo>
                <a:cubicBezTo>
                  <a:pt x="11345" y="0"/>
                  <a:pt x="21669" y="10187"/>
                  <a:pt x="21691" y="10187"/>
                </a:cubicBezTo>
                <a:cubicBezTo>
                  <a:pt x="22715" y="11337"/>
                  <a:pt x="21705" y="11173"/>
                  <a:pt x="21705" y="11173"/>
                </a:cubicBezTo>
                <a:lnTo>
                  <a:pt x="16526" y="11173"/>
                </a:lnTo>
                <a:lnTo>
                  <a:pt x="16526" y="21600"/>
                </a:lnTo>
                <a:lnTo>
                  <a:pt x="6165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1080" rIns="9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7" name="Text Box 7"/>
          <p:cNvSpPr/>
          <p:nvPr/>
        </p:nvSpPr>
        <p:spPr>
          <a:xfrm>
            <a:off x="316080" y="1306440"/>
            <a:ext cx="8912160" cy="3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Write proposal; solicit materials from teachers in the department </a:t>
            </a:r>
            <a:endParaRPr b="0" lang="en-US" sz="21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8" name="Text Box 8"/>
          <p:cNvSpPr/>
          <p:nvPr/>
        </p:nvSpPr>
        <p:spPr>
          <a:xfrm>
            <a:off x="112680" y="2394000"/>
            <a:ext cx="903132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ollect current research, publications about new trends in the field and other schools, and conference materials </a:t>
            </a:r>
            <a:endParaRPr b="0" lang="en-US" sz="21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9" name="Text Box 9"/>
          <p:cNvSpPr/>
          <p:nvPr/>
        </p:nvSpPr>
        <p:spPr>
          <a:xfrm>
            <a:off x="-90360" y="3846600"/>
            <a:ext cx="9764640" cy="3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gn the materials collected with the five college learning outcomes</a:t>
            </a:r>
            <a:endParaRPr b="0" lang="en-US" sz="21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0" name="Freeform 10"/>
          <p:cNvSpPr/>
          <p:nvPr/>
        </p:nvSpPr>
        <p:spPr>
          <a:xfrm flipV="1">
            <a:off x="4138560" y="4360320"/>
            <a:ext cx="520920" cy="693720"/>
          </a:xfrm>
          <a:custGeom>
            <a:avLst/>
            <a:gdLst/>
            <a:ahLst/>
            <a:rect l="l" t="t" r="r" b="b"/>
            <a:pathLst>
              <a:path w="22715" h="21600">
                <a:moveTo>
                  <a:pt x="6165" y="21600"/>
                </a:moveTo>
                <a:lnTo>
                  <a:pt x="6165" y="11173"/>
                </a:lnTo>
                <a:cubicBezTo>
                  <a:pt x="6165" y="11173"/>
                  <a:pt x="1031" y="11188"/>
                  <a:pt x="985" y="11173"/>
                </a:cubicBezTo>
                <a:cubicBezTo>
                  <a:pt x="0" y="11173"/>
                  <a:pt x="995" y="10190"/>
                  <a:pt x="995" y="10190"/>
                </a:cubicBezTo>
                <a:lnTo>
                  <a:pt x="11345" y="0"/>
                </a:lnTo>
                <a:cubicBezTo>
                  <a:pt x="11345" y="0"/>
                  <a:pt x="21669" y="10187"/>
                  <a:pt x="21691" y="10187"/>
                </a:cubicBezTo>
                <a:cubicBezTo>
                  <a:pt x="22715" y="11337"/>
                  <a:pt x="21705" y="11173"/>
                  <a:pt x="21705" y="11173"/>
                </a:cubicBezTo>
                <a:lnTo>
                  <a:pt x="16526" y="11173"/>
                </a:lnTo>
                <a:lnTo>
                  <a:pt x="16526" y="21600"/>
                </a:lnTo>
                <a:lnTo>
                  <a:pt x="6165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1080" rIns="9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1" name="Text Box 11"/>
          <p:cNvSpPr/>
          <p:nvPr/>
        </p:nvSpPr>
        <p:spPr>
          <a:xfrm>
            <a:off x="112680" y="4964040"/>
            <a:ext cx="903132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reate a Wiki site using the collected materials: 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http://bit.ly/Hdeghg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1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2" name="Freeform 12"/>
          <p:cNvSpPr/>
          <p:nvPr/>
        </p:nvSpPr>
        <p:spPr>
          <a:xfrm flipV="1">
            <a:off x="4138560" y="5286240"/>
            <a:ext cx="566640" cy="790560"/>
          </a:xfrm>
          <a:custGeom>
            <a:avLst/>
            <a:gdLst/>
            <a:ahLst/>
            <a:rect l="l" t="t" r="r" b="b"/>
            <a:pathLst>
              <a:path w="22715" h="21600">
                <a:moveTo>
                  <a:pt x="6165" y="21600"/>
                </a:moveTo>
                <a:lnTo>
                  <a:pt x="6165" y="11173"/>
                </a:lnTo>
                <a:cubicBezTo>
                  <a:pt x="6165" y="11173"/>
                  <a:pt x="1031" y="11188"/>
                  <a:pt x="985" y="11173"/>
                </a:cubicBezTo>
                <a:cubicBezTo>
                  <a:pt x="0" y="11173"/>
                  <a:pt x="995" y="10190"/>
                  <a:pt x="995" y="10190"/>
                </a:cubicBezTo>
                <a:lnTo>
                  <a:pt x="11345" y="0"/>
                </a:lnTo>
                <a:cubicBezTo>
                  <a:pt x="11345" y="0"/>
                  <a:pt x="21669" y="10187"/>
                  <a:pt x="21691" y="10187"/>
                </a:cubicBezTo>
                <a:cubicBezTo>
                  <a:pt x="22715" y="11337"/>
                  <a:pt x="21705" y="11173"/>
                  <a:pt x="21705" y="11173"/>
                </a:cubicBezTo>
                <a:lnTo>
                  <a:pt x="16526" y="11173"/>
                </a:lnTo>
                <a:lnTo>
                  <a:pt x="16526" y="21600"/>
                </a:lnTo>
                <a:lnTo>
                  <a:pt x="6165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1080" rIns="9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3" name="Text Box 13"/>
          <p:cNvSpPr/>
          <p:nvPr/>
        </p:nvSpPr>
        <p:spPr>
          <a:xfrm>
            <a:off x="299880" y="6164280"/>
            <a:ext cx="8983800" cy="3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hare resources within the college and beyond </a:t>
            </a:r>
            <a:endParaRPr b="0" lang="en-US" sz="21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Title 1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8686800" cy="1006560"/>
          </a:xfrm>
          <a:prstGeom prst="rect">
            <a:avLst/>
          </a:prstGeom>
          <a:ln w="0">
            <a:noFill/>
          </a:ln>
        </p:spPr>
      </p:pic>
      <p:sp>
        <p:nvSpPr>
          <p:cNvPr id="425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341280">
              <a:lnSpc>
                <a:spcPct val="95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In your groups, look over the critical thinking outcomes and talk about 1-2 activities that you use in your classroom that could help students achieve them.  </a:t>
            </a:r>
            <a:endParaRPr b="0" lang="en-US" sz="29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341280">
              <a:lnSpc>
                <a:spcPct val="95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341280">
              <a:lnSpc>
                <a:spcPct val="95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How can this type of work be applied to your own department?  Do you have similar methods for sharing resources?  Are they linked to course, program, or school-wide SLOs?  </a:t>
            </a:r>
            <a:endParaRPr b="0" lang="en-US" sz="29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Title 1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8686800" cy="1006560"/>
          </a:xfrm>
          <a:prstGeom prst="rect">
            <a:avLst/>
          </a:prstGeom>
          <a:ln w="0">
            <a:noFill/>
          </a:ln>
        </p:spPr>
      </p:pic>
      <p:sp>
        <p:nvSpPr>
          <p:cNvPr id="427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Questions?  Contact: 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eth Patel </a:t>
            </a:r>
            <a:r>
              <a:rPr b="0" lang="en-US" sz="3000" spc="-1" strike="noStrike" u="sng">
                <a:solidFill>
                  <a:srgbClr val="0000ff"/>
                </a:solidFill>
                <a:uFillTx/>
                <a:latin typeface="Arial"/>
              </a:rPr>
              <a:t>beth.patel@marin.edu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or 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ara Statucki Kreit </a:t>
            </a:r>
            <a:r>
              <a:rPr b="0" lang="en-US" sz="3000" spc="-1" strike="noStrike" u="sng">
                <a:solidFill>
                  <a:srgbClr val="0000ff"/>
                </a:solidFill>
                <a:uFillTx/>
                <a:latin typeface="Arial"/>
              </a:rPr>
              <a:t>cara.statucki@marin.edu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ject was funded by the Basic Skills Initiative at College of Marin   </a:t>
            </a:r>
            <a:br>
              <a:rPr sz="24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4T04:28:30Z</dcterms:created>
  <dc:creator>Bradley Kreit</dc:creator>
  <dc:description/>
  <dc:language>en-US</dc:language>
  <cp:lastModifiedBy>Cara Statucki</cp:lastModifiedBy>
  <cp:lastPrinted>2012-04-12T17:22:59Z</cp:lastPrinted>
  <dcterms:modified xsi:type="dcterms:W3CDTF">2012-04-12T23:51:51Z</dcterms:modified>
  <cp:revision>5</cp:revision>
  <dc:subject/>
  <dc:title>Slide 1</dc:title>
</cp:coreProperties>
</file>